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9AE-99C7-4627-93B2-7DF244B1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2E7-01BC-43AE-84C5-F8E09DA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EEB763-64BB-44B8-8396-DCFD140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C3F5A-D229-4153-ABBB-A998B70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2E901-2196-4C7C-BD93-0104AF3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D2E81-4B3D-4FB0-A08B-938BA2B0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CD197-F2E6-4299-B416-6567B3FB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BAF4E-D481-4223-85A9-189E5D7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E3779-1299-4A28-B806-C970E34E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12AF6-FD4C-4340-BA78-9378776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E7807-319E-436E-A333-F7BE3C6E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50F-7853-41A1-A58F-CB11EEDD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7D3-8203-40F4-9311-B7EEC1D8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524-F8A1-4DB4-8D4D-EFE611F8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DEE2-F3E3-4038-A343-E9FA1C5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602-EB0A-4B3D-A888-FDD31F4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7830-2EC7-494E-8953-43F843C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85F-5A8E-401C-B1C6-C1F15F1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0C98-87D2-4143-95DF-C7E9021D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52A-E34B-4297-8863-B2390D9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CFA-39A5-4A11-834D-CEBC5E0C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19FF-7392-4877-8D7E-E4E9FE8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4EBC-B7F7-443D-86EC-0E26F31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114-4F30-49AD-9491-8ACE93D4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0108-B87A-4688-A6E1-FDE42B7B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869-E302-4810-AB0A-0DDE73B4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2B9E-850E-424C-B932-A35B8A8C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2E33-FE71-42CD-96B3-E1A2ABA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0DB5-DC62-4BC1-A35F-EE13946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DA21-984D-41E9-B95A-BE0C0F8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3209-AB9B-4E3B-BAFD-56008CD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58B-BDC1-4548-A179-B3E27FD2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CF72-964A-47AF-8133-A68E8362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B3C9-843E-4C7F-B393-9A3BB51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73DF-3436-44F6-B68D-37F2313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C8E7-36A4-4F11-B261-293A1BD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9338-877E-4F0F-9EF7-6C0656C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A8BF-D1B7-4D22-98F0-E6517D59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63D4-D5F3-4C97-82A7-6A337514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52B03-0250-4080-83FE-1CECA38211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8014E-884A-47E4-BE67-B7B68E261A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EA8FB-E5D1-4C64-BF7E-3F92C5BCE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9EA-0810-42CC-8113-E83AC57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05726-11B4-4BF1-AE54-E4F586886A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1E82B-3962-4A88-932F-27D569667C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A1547-E4FA-4FD8-8FAF-400D4F6003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ED4EE-C09B-4599-B1BD-FE847A561D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B1623-AF90-43B7-BFF9-DCA134094D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77D56-9EB6-46DE-8BE0-5A662B5D89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4F9CC-F2B0-4AB9-8C00-F018D44A9E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47556-181A-42BF-B714-C064C8D67F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61306-127D-4BE6-9FE0-048143F1FD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16A8-E073-4A80-B9E9-4F439674C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830-6FF7-4425-8CE9-8E45B33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4146-5C3A-4E06-A838-33B39B2FFD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DC49-1828-4BF6-A29F-29C7119E1E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77C8-CA3B-4B1B-89FA-76CFC250A1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F64B-7092-455A-8904-34585DC098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4952-C0AF-476A-9B60-32DC4624EA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3001-925F-4613-808A-9D2E486189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826A-84DF-4988-8819-36D2161813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AB2B-E625-48D0-8551-5A8AE92823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1864-7D85-4438-85B6-DBDEFD19D4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F319-D9EE-4A6E-B431-4359CF0A1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67E-B131-4EB1-89A3-1BF4E0B7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17B9-1DFB-443C-9136-98547E8A12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11F06-3CD4-411D-AD3C-70DD24B4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65364-2EC9-4798-B040-7048AA1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0FF9F-FD38-4F5C-8C5D-0741CBE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670F8-07D5-4120-A07D-0DEFED10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49CCAA-7EE0-40C0-95D0-0F512E2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C920EE-82C5-457B-9770-6AFED7F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A4B44-DB43-4A4F-91CB-AC91228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9B6B1-E0EC-4CF3-B2C3-2445090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F910EF-F784-40F1-A876-6250CE3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212-B201-401F-80F0-FF15F98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E154F9-D1AA-453B-A2A8-21A3C56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D52A9-6512-41E2-B056-CE30050F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413BA5-E618-476B-BF3C-5A79E95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B995-3D67-4ECA-97C4-0AF8BC18ED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3597-A588-4B88-BF13-48D4027063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D162-2FCC-4075-B400-C6CF56A051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97CF-C95E-4E94-A53C-3899AEC11D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50BE-107A-4FA9-B71E-CF389EACE7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A889F-15C6-4727-96F8-7D717A2B39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17B10-5FB7-4971-910B-B3DCC4E7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44C-FDB5-457C-BF5D-72B4FDC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09ED1-3205-4576-9C7D-68AFBAD863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87CA8-F3AF-44D4-8E92-05044B714C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5FDE-B194-46B9-B2FF-8F3DB1D3D7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892D-9FA7-4742-B010-33941BDA64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B23B-E4B2-4A08-AE1B-AE35C7E524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7D9E5-E1CB-4618-A50D-D727920069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EDD40-5B4A-417A-AE08-2882468AFB3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E251D-C783-402E-837D-44D48EA305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2C48D-D351-4F5D-AA35-599A36088E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5C457-F822-4FBC-BC09-48B9CDC5F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AAB-A5D7-437F-A50C-73CC86E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27773-B1DA-4B5A-86F7-94B20886AA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DF925-06AA-4210-B098-0E97567EF3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92507-A910-4E17-B833-1AA8CE28C96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DAC7F-E211-4A58-8E44-ADC1AA04CD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68A2C-FDB7-43A0-B551-EC5C538DDA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37360-50E3-4F90-A796-A36EDEF08D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D6A7B-657C-4E44-A276-4787CCB7862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6B97B-A75F-42B1-83AE-08BA4783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67DC9-7CB7-4827-81D8-195CC38C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48368-9E63-4B00-ADD4-D5548E8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82E6-FC76-46B1-AF2D-F90C6F662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603-5A25-4524-AA39-6EA35AF6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644B-6E2D-42C3-B69F-78A172D3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E97D97-A933-4CBB-A06D-6DA70F9E7A6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1C39091-8E22-4A5E-90E8-D9D391AB3DE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A4E-239C-4036-B17C-25E6AF8D9FE6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ACE218-2557-435C-AF33-6D33E727D82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FEC1FC-15BB-4394-8AF0-73A56CDBA17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AE3DA1C-C91C-41AF-938E-751CD6F407B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8ED7-22A0-424D-ADBD-AA63AA53E8FC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hoose the Channel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1 Global Channels of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2 Sports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3 Entertainment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335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.4 Technology and Distribution Med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80880" y="3808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47A-9BDC-4329-9643-F9F215BBBC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distribution affect the success of an event or produ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739-8092-4C25-A48F-536F5BAE6C4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HANN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jor channels of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197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9A0-733B-4161-BEB4-5B1DF394AA1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Live Ev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phith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l-shaped outdoor theaters with tiered seating around a central staging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cility where an event is h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AE5-AA78-48D7-8939-278D0898DD7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Via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ans of distributing the event to a large volume of people (the mas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assive marketing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AFF8-F614-4C42-A24E-FD6D38D1B0F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u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inexpensive equi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ily available where other media is un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110.6 million U.S. households own at least one tel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 viewers between the ages of 18 and 49 are the target audience of most televised sporting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’ advertising is geared to the 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Ra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45E-64B0-4C73-BEAA-483F89A5CAC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sent shock waves through the major traditional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ternet technology improves, creative ideas emerge for its use to enhance and complement the older channels of distrib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88C-2F69-466F-A02B-5CFE6243F0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elivery Op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t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 of delivery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07E-9369-4DD0-B6EC-13E57DCF890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two major channels of distribution for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9292-5356-4FB1-B808-A3C7D9E23CD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2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Sports Distribution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distribution and sponsorship of amateur sports and re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distribution of college spor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distribution of professional spor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6B66-ABD9-45C1-84B4-1F11EA5F342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le 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gue agre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6E7D-AE20-4983-9815-AC34217B103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inn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TiVo refers to both the service and the company’s digital video rec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ing to distinguish itself from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view assorted clips free of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 digital 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ad pho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le and satellite TV are main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457200" y="1066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iVo, In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A22-B20D-465F-85E6-241E11C352A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MATUER SPORTS AND RECRE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teur athl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for enjoyment and chall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9B4-5238-454C-9E77-39F07D1F912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itness and F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creation industry is driven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isur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267080"/>
            <a:ext cx="2057400" cy="16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3C6-0052-4C95-AFFE-3F023AE718F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acilities versus Wilder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alance must be struck between the need for outdoor recreation and the need to preserve the enviro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B0A-5952-4A82-A6CB-2B83F90595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etting Ac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ion in recreational sports is directly related to in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 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1972 amendment to federal education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hibits discrimination against females in high school 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536-88F3-490E-A16A-BFAC2E60AB1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6840" y="2666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affect the development of recreational sports facilitie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E131-FC89-4159-96E2-2B635C9E483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LLEGIATE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inning college team has economic implications for i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78168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708-34EC-4AFD-A882-334D33D7D18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ootball R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wl Championship Series (B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2006, participating teams received between $14.8 and $18.3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 pay for teams’ travel and participation expen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nsors want a sell-out crowd and a large TV audience to maximize reve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FFB8-B703-48F4-97FE-DA61161A75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llege Team Rank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BCS ra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te to big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ich teams play in the national champion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DD5-CAE4-4C13-983C-72639117045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nfluences which games are distributed via national televis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739-65AF-4218-8C6E-978F8D7559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SIONAL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arket driven economies, professional sports are distributed based on dem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government controlled economies, distribution of sports is tightly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8A6-4E9A-47E0-AE0C-C38DF92D9A7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1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Global Channels of Distrib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importance of sports and entertainment distrib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nd describe distribution channels for sports and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A514-8F68-4903-8E09-357CAA3DB13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orldwide Cover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2006 FIFA World Cup match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a combined audience of 32 billio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broadcast in HD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three years to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more than 300 broadcast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a disposable arena for 10,000 fans of the final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A6B-9D56-496F-A900-5E8FCEFE82F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 with restrictive governments prohibit and/or censor the broadcast of ga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olitical 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272-EAD1-4EE4-B817-FA1E8111A3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stributing the Ga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U.S., demand for professional sports teams exceeds supp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C79D-2979-4F17-804D-0C76B6A79B2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mbination of independent businesses formed to regulate production, pricing, and marketing of a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gue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 the marketing mix and governs the distribution of the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legislation exists to exempt professional sports teams from federal antitrus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1E2-0D77-4DCB-93D2-1BE3FCF2890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s with a large potential customer base are considered favorable for the location of a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id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financially back a t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ten with public f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How Distribution is Dec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553080" y="4267080"/>
            <a:ext cx="221004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F67A-BC17-43FE-926E-153C74B4FA5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sion f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ce that existing leagues’ owners set for the new owner of a franch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ions will pay high fees to get their name on a stadi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It Takes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553080" y="4267080"/>
            <a:ext cx="221004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409-C15A-462C-87E5-C291A138530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Nonstop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assorted media outlets, the NFL offers related coverage 24/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197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941-2C07-4587-842D-1203BB4AE3C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805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would a city want a professional sports team in its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2B8B-DF93-4830-B267-57B14AEC58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3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Entertainment Distribu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distribution of mov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changing formats of music distrib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F41-D10A-4664-8CEB-FC915180BB8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-house 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p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king sta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179A-B31D-4CA9-BA21-7CBAB645308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enter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hith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for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F80-0F01-42EB-A6E2-1CAF6ECCD43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 THE MOV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celona, Spain shows more than 80 movies da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8F09-230C-4925-B3F6-7ED5B35010F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e Big Scre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ies are made with the demographics of a particular audience in m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vie p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lease of a movie to a limited number of theaters prior to its official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-house mov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side the mainstream of popular su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made by independent filmm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804-D636-409E-A9FF-BA70106A2A8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Managing the Costs of Mov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-budget 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less than $250,000 to produ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d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distribution of a movie to a thousand or more theaters concurren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rcRect l="30470" t="57297" r="44535" b="18753"/>
          <a:stretch/>
        </p:blipFill>
        <p:spPr>
          <a:xfrm>
            <a:off x="6705720" y="44197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4E9-3BCA-4539-A03C-A91F3074E3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atch It at Ho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flix opened a new channel of distribution for entertai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DVD  r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ls movies to subscr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5720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05C-8B6C-40FD-8E0D-F972633AF3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at least three ways that movies are distribu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868A-1456-4C76-8289-7F342412B81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KING MU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66"/>
                </a:solidFill>
                <a:latin typeface="Tahoma"/>
              </a:rPr>
              <a:t>Marketing the King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peal of an icon offers a variety of opportunities to distribute music and related products globa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5720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14EA-0D0D-4F7A-AC09-6CAD8198860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From Vinyl to iP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stored on a digital file can be played on personal computers or portable media play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E878-1900-4A3C-80DC-630CD813485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Jumping on the Bandwag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rs of high-end electronic stereo systems jumped on the digital bandwag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781680" y="4267080"/>
            <a:ext cx="2057400" cy="16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BFE-C712-481A-AD09-75862480B77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s iPods to be connected to speakers that project the music throughout a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ocking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6D9-4068-4DEB-B3B6-F95A4BB0966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hanges in music distribution did portable digital music players br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672-C82E-4BB6-873B-2EA06093C15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T IT TH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the transportation and dissemination of a product 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DD4-84C7-4895-8F11-D0F23F267E4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esson 8.4</a:t>
            </a:r>
            <a:br>
              <a:rPr sz="2000"/>
            </a:b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Technology and Distribution Media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convergence of sports and entertainment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changes brought about by digitalizing mus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E000-79CA-4268-A057-A618D69BC22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c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tical inte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3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52B-B84D-4BF6-8AAC-1E64E661B2C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DIA MER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nes between the various information, communication, and entertainment media are becoming more and more blur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43434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8E5-4F52-4039-9379-47FB906D571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able Ma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ly, there were three TV networ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411-01BE-41A4-9E28-5A3A95D1E03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y of distributing multimedia files over the Internet for playback on computers, iPods, cell phones, and other mobile de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o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DF08-5567-4246-A455-DE4F0F30D5D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gital Deli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elevision transmissions must convert from analog to digital format by February 200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analog transmissions stop, a set-top converter box will be required to use an analog T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93432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E6B-CF2A-423D-801B-6755A01F639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pace-Based Ra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ellite radio systems have three compon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tellites that orbit th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nd stations that transmit signals to the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o receivers that unscramble the signals for liste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211-4D38-45E2-82C0-EEEE2C7CB26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services on de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terrupted service from coast to co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atellit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929-BCD7-41D1-946D-E06C4102419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Mega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 we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of related entertainment businesses that produce shows or provide services for other group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rcRect l="6250" t="40626" r="69534" b="35419"/>
          <a:stretch/>
        </p:blipFill>
        <p:spPr>
          <a:xfrm>
            <a:off x="6858000" y="44956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8141-055E-46AC-A4C4-52E243BB84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one company controls several different areas of the same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vert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2764-EF2E-4DEF-A3E5-5C9D3528A2D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Economics of Distrib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e enter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conomic system that allows the unregulated supply and demand of products to drive th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D43-CBF2-4CEB-9566-1C1A3FA2A6A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s to create cross-promotional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market both advertising and entertainment to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isney is vertically integrate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43434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812B-3DBF-42C1-AE8B-0D613A83790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two advantages of satellite radio over traditional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241-7D08-4988-8BEF-1813D9620B7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 PLATFO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a business planning perspective, it is difficult for sports and entertainment distributors to keep up with technological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rcRect l="40625" t="38544" r="33597" b="33337"/>
          <a:stretch/>
        </p:blipFill>
        <p:spPr>
          <a:xfrm>
            <a:off x="6858000" y="4343400"/>
            <a:ext cx="20574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5D3C-08F5-41AB-8C5F-0FC3E7EA87E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Internet Music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-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files available for others to downl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uthorized cop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C09-9C69-4F26-A307-6693BB28ACE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85800" y="3123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P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igital audio encoding and compression format designed to greatly reduce the amount of data required to represent a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685800" y="106668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awsuits can be filed against computer owners who have a large collection of illegally obtained, copyright-protected mate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B8C-5C2F-4B64-98DD-F08BBE337E1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thod to compress music and then decompress it in a way that does not noticeably affect th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85800" y="10666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os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213-C154-4AD9-ADB4-F408C96578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ere only a limited amount of music available in the MP3 form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7F9-D16C-4AAA-BB01-1EDADB4A513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PERFORMANCE INDICATORS EVALUAT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impact of hurricanes and the need for a guest safety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ze the importance of explaining a preparedness plan to prospective hotel gues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4" name="Picture 7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04E3-3F99-4E7E-B7B9-D2DD9506EF4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80520" y="3124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all aspects of the multi-media pres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pplicable, demonstrate teamwork that involves all members in the pres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0880" y="16002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esign an effective multimedia presentation that outlines the dangers of hurricanes and explains the safety pla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9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789-9B3F-4CB1-ABE8-15F0B64230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INK CRITICAL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a multimedia presentation work well for this type of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a multimedia presentation more effective than a printed docu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should the hotel invest money in this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ould this multimedia presentation be distributed to the intended customer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4" name="Picture 7" descr="WinningEdge_FBLA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98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22F-2307-4862-9F0E-32628D89466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lobal Challen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ountries discourage films produced in other countries from entering easily into their own count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6BD6-E29B-496F-8860-1A42CE9E4EA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and for foreign-produced entertainment is 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580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U.S. has no formal barriers to the import of audiovisual entertai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D16-5329-4AED-8412-20A77F373D7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isney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49, Walt Disney hired a European citizen to run the Disney distribution operations in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Disney character merchandise can be purchased anywhere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essicaLee</cp:lastModifiedBy>
  <dcterms:modified xsi:type="dcterms:W3CDTF">2014-01-21T21:38:40Z</dcterms:modified>
  <cp:revision>688</cp:revision>
  <dc:subject/>
  <dc:title>Chapter 8</dc:title>
</cp:coreProperties>
</file>